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005A-71AD-43CB-96B2-224D5358B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A815-A6FB-4F0A-9D16-D400786DC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805A-984A-4FAE-B6D4-8934A483D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EF90-C367-445A-A1CC-01B1D33B9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3B0C-220D-45A9-A3DC-51E16495C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52E1-4EE7-49DE-979A-FBA4E8AE69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D551-D256-4189-9D53-5604C2399B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780DE-11D0-476F-A6E9-67F5333248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7018-C391-4B2A-AA4A-652DA8FAE2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A4BD-35B9-4C2D-B9D1-93FA3A568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D472-FFE5-481D-9909-648563C2A9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C2C93-1773-478F-9663-67EA47CD9C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D569-D66E-4172-BC66-F326BB14A8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9691-880D-47AD-8DF7-D1212FCB46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6B8E-F7D9-413E-8DD6-08973AFBCE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A4A2-8025-4682-8706-1A1455538B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332D-304E-43E2-8955-58A7207031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02CB2-F035-443A-A33C-EB899392FB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766-CDF5-419E-8114-2ED9875B7F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26D-7D2D-4F88-92FB-EDFF56CCEE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C3B-F7BC-42B5-B025-DF85A40FD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DF53-5D77-4EE7-8E55-C603D700BB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5E5-A455-484B-B536-9CAB4ECFD7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1DE-9FF7-4A84-B595-CF8E8BF79D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9B6-8A6F-47B9-B44F-41EAAA134A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D7F-CFCF-456B-BD5B-3E2B429364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F6F-6A46-4ED3-80E3-A2C6818FBC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5B4-6EC1-4FE3-BCF8-BFEC43847F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230-1805-43E7-B71B-189896EB56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664-76AF-47A7-B94D-81EB76685D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79D-84B2-4C07-9B7D-44AD7E76236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3DD31-1243-4B33-B855-23E8B789B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BFF2-A6B7-4C99-A598-6B6A6135F0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0162-6883-45E7-9AC2-248C79FA906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08EFE-C2BC-48F2-8361-F32C4FCA6D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21A3C-DB93-4FDE-9BD0-EF67793966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08475-3BC2-4185-883A-5F437ED44E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C21E6-2B19-4EE4-9D00-D9513392EE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7B631-ABD3-4096-B7D7-6697460151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D68F3-F9D2-4833-A69E-608BC0C2DC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0A96F-70AF-48A5-BC80-56C1C49865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A14F9-9BEF-4FB2-AC2F-67379B243C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62287-86EF-42E9-A866-4C5AEF821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D7D0-42C2-47FA-AA00-8E61A4F641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33627-CBA1-42D7-9483-C7EC5575E2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50773-2710-495E-B1E9-02223E323D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7D17F-9930-4322-AC0D-4B238D1BEF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612C-0B87-4DE1-8089-8A6CBE55F0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81360-BEFD-4266-A4C7-086AFE1651C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FDC4D-ED0A-4DCD-9DFC-CF2555F182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B5A59-5A97-422A-A537-9E669D69B2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A1402-E4C0-49A3-9FF6-FCE3692BC1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EC761-59C4-4D23-A421-67BE266FE0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DE17-71D9-4795-B9C3-C39EDDF68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95B3-D398-41C7-A6C7-39F57C9FEE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22364-FE04-4CCF-B38F-E7896252235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84EB2-A6DB-46B8-BFBA-52D3617F330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B71C-980F-4C88-A4EE-AAD79B9742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E919-A4CE-4F20-9811-330DFA0D14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90B2-2B3A-4089-B724-258FD747BA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8769-C3AB-49A0-8721-D29B6B871D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2D13-1CE8-4606-AD38-5981F7D757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FE3A-4F92-40AA-993C-35DA9661E1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809C-C279-4A3D-A8F5-82F6CEC38C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48F0-E18B-49E7-8F71-4F7108D92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28B0-A497-47FB-9CD7-7C2406C9077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414F-B124-4DFD-9BF0-A0498687097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ADA-A3E0-4D86-A5A5-EFEE14776E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C973-F972-4236-825D-2D11486004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716-1AA9-4E3C-88F4-9A94C614778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773-B378-4E30-A5D1-6B076772C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E0D4-FBD3-4604-AE0B-201DD932D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B64B-F2C4-4981-9419-5C6C944CDB3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7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3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A439-F6B3-4F34-AB95-BBAD7FE2588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1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97C1-07A0-4831-8A8B-F835F7D4644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84E-E824-440B-BFC7-4F02359487E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9A90-4886-4DFE-A370-C41C1D74D46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6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7281-030D-42EF-BB5C-7496BA82062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343" name="Title 1" descr=""/>
          <p:cNvPicPr/>
          <p:nvPr/>
        </p:nvPicPr>
        <p:blipFill>
          <a:blip r:embed="rId2"/>
          <a:stretch/>
        </p:blipFill>
        <p:spPr>
          <a:xfrm>
            <a:off x="3943440" y="2328840"/>
            <a:ext cx="4981320" cy="33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817720" y="1463760"/>
            <a:ext cx="607536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Text Box 4"/>
          <p:cNvSpPr/>
          <p:nvPr/>
        </p:nvSpPr>
        <p:spPr>
          <a:xfrm>
            <a:off x="3473280" y="6019920"/>
            <a:ext cx="52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acros can be edited in the Visual Basic Ed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629400" y="3559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d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14400" y="2635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Project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914400" y="43434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Properties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24382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2666880" y="4529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752480" y="4267080"/>
            <a:ext cx="632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irst lines in a macro include the macro name and comment lines. A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ubroutine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macro is run from within the work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omment lines are preceded by an apostrophe and shown in green. A keyboard shortcut may also be indi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24536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Rectangle 4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aces and punctuation are part of the macro code and should not be chang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mple format and text changes are relatively easy to determ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resave the workbook to save edits made in the Visual Basic Edi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1"/>
          <p:cNvGrpSpPr/>
          <p:nvPr/>
        </p:nvGrpSpPr>
        <p:grpSpPr>
          <a:xfrm>
            <a:off x="1523880" y="1371600"/>
            <a:ext cx="6567480" cy="4925880"/>
            <a:chOff x="1523880" y="1371600"/>
            <a:chExt cx="6567480" cy="4925880"/>
          </a:xfrm>
        </p:grpSpPr>
        <p:pic>
          <p:nvPicPr>
            <p:cNvPr id="382" name="Picture 2" descr=""/>
            <p:cNvPicPr/>
            <p:nvPr/>
          </p:nvPicPr>
          <p:blipFill>
            <a:blip r:embed="rId2"/>
            <a:stretch/>
          </p:blipFill>
          <p:spPr>
            <a:xfrm>
              <a:off x="1523880" y="1371600"/>
              <a:ext cx="6567480" cy="4925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3" name="Oval 7"/>
            <p:cNvSpPr/>
            <p:nvPr/>
          </p:nvSpPr>
          <p:spPr>
            <a:xfrm>
              <a:off x="3200040" y="2895480"/>
              <a:ext cx="9144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4702320" y="255384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You can change the font size by keying a new siz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7"/>
            <p:cNvSpPr/>
            <p:nvPr/>
          </p:nvSpPr>
          <p:spPr>
            <a:xfrm>
              <a:off x="5486040" y="4114800"/>
              <a:ext cx="9144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8"/>
            <p:cNvSpPr/>
            <p:nvPr/>
          </p:nvSpPr>
          <p:spPr>
            <a:xfrm>
              <a:off x="4753080" y="4648320"/>
              <a:ext cx="322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Add text by clicking to place an insertion point and keying the new da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949320" y="2038320"/>
            <a:ext cx="7661160" cy="177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TextBox 3"/>
          <p:cNvSpPr/>
          <p:nvPr/>
        </p:nvSpPr>
        <p:spPr>
          <a:xfrm>
            <a:off x="1828800" y="4324320"/>
            <a:ext cx="613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insert your own comment lines in a macro. Key an apostrophe to precede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7"/>
          <p:cNvSpPr/>
          <p:nvPr/>
        </p:nvSpPr>
        <p:spPr>
          <a:xfrm>
            <a:off x="762120" y="594360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hoose File and Print from the Visual Basic Editor menu to print macro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181160" y="1447920"/>
            <a:ext cx="7200720" cy="43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E6E-A6D8-4EC3-888B-B76EC7A4EE1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recorded and saved in a macro-enabled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first name a macro and then perform the actual steps for the tas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is usable whenever the workbook is op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RecordStatusBar"/>
          <p:cNvPicPr/>
          <p:nvPr/>
        </p:nvPicPr>
        <p:blipFill>
          <a:blip r:embed="rId1"/>
          <a:stretch/>
        </p:blipFill>
        <p:spPr>
          <a:xfrm>
            <a:off x="1066680" y="1473120"/>
            <a:ext cx="3581640" cy="119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9" name="Text Box 12"/>
          <p:cNvSpPr/>
          <p:nvPr/>
        </p:nvSpPr>
        <p:spPr>
          <a:xfrm>
            <a:off x="266688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Macros button  is on the View command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5638680" y="2590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Code group is on the Developer command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1600200" y="27068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re is a Record Macro button in the status 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3695760" y="3809880"/>
            <a:ext cx="2324160" cy="18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3" name="Picture 4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69892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4" name="Rectangle 2" descr=""/>
          <p:cNvPicPr/>
          <p:nvPr/>
        </p:nvPicPr>
        <p:blipFill>
          <a:blip r:embed="rId4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5" name="Oval 1"/>
          <p:cNvSpPr/>
          <p:nvPr/>
        </p:nvSpPr>
        <p:spPr>
          <a:xfrm>
            <a:off x="1600200" y="2286000"/>
            <a:ext cx="5335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523880" y="17524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names must begin with a let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 names cannot include spaces or special charac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l macro shortcuts include [Ctrl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should use uppercase letters for keyboard shortcu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5" name="Content Placeholder 3" descr=""/>
          <p:cNvPicPr/>
          <p:nvPr/>
        </p:nvPicPr>
        <p:blipFill>
          <a:blip r:embed="rId2"/>
          <a:stretch/>
        </p:blipFill>
        <p:spPr>
          <a:xfrm>
            <a:off x="324000" y="1427040"/>
            <a:ext cx="8448480" cy="476568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C099-878D-415B-84B8-A7177DF506A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556272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0" name="TextBox 1"/>
          <p:cNvSpPr/>
          <p:nvPr/>
        </p:nvSpPr>
        <p:spPr>
          <a:xfrm>
            <a:off x="762120" y="225576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 the Record Macro dialog box, you can name the macro, assign a shortcut, and key a de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447560" y="16002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al-purpose macros are used with one workbook and should be stored in that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ral-purpose macros can be stored in a workbook that contains only macros. Anytime this workbook is open, any other open workbook can use its mac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StopRecording"/>
          <p:cNvPicPr/>
          <p:nvPr/>
        </p:nvPicPr>
        <p:blipFill>
          <a:blip r:embed="rId1"/>
          <a:stretch/>
        </p:blipFill>
        <p:spPr>
          <a:xfrm>
            <a:off x="2057400" y="4835520"/>
            <a:ext cx="1905120" cy="403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StopStatusBAs"/>
          <p:cNvPicPr/>
          <p:nvPr/>
        </p:nvPicPr>
        <p:blipFill>
          <a:blip r:embed="rId2"/>
          <a:stretch/>
        </p:blipFill>
        <p:spPr>
          <a:xfrm>
            <a:off x="1219320" y="1828800"/>
            <a:ext cx="3200400" cy="16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5" name="Text Box 7"/>
          <p:cNvSpPr/>
          <p:nvPr/>
        </p:nvSpPr>
        <p:spPr>
          <a:xfrm>
            <a:off x="4800600" y="18144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ile you are recording a macro, the status bar shows a Stop Recording button. Click this button when you complete the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4800600" y="4591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re is a Stop Recording button on the Developer command t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3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18" name="Oval 1"/>
          <p:cNvSpPr/>
          <p:nvPr/>
        </p:nvSpPr>
        <p:spPr>
          <a:xfrm>
            <a:off x="1828800" y="3200400"/>
            <a:ext cx="380880" cy="27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recorded with absolute or relative referen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lative References button is an on/off togg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relative references, the macro records pointer movement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position the pointer before running the macr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523520" y="205704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ith absolute references, the macro records ending cell address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inter movement is not record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ointer can be anywhere when the macro is ru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24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1D3-88D2-4ECD-8FED-929D0E257E8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133720" y="1654200"/>
            <a:ext cx="6705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orm control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n object that directs tasks or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utton is a form contr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utton, when clicked, runs the macro that is assigned to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Insert Controls button on the Developer command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1033560" y="1795320"/>
            <a:ext cx="566640" cy="56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7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"/>
          <p:cNvSpPr/>
          <p:nvPr/>
        </p:nvSpPr>
        <p:spPr>
          <a:xfrm>
            <a:off x="2133720" y="472428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raw the button control on the work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712800" y="1905120"/>
            <a:ext cx="819468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763560" y="1495440"/>
            <a:ext cx="7694640" cy="45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3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3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93B1-1E64-4D27-9E97-9D1AABF6AD5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4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28D3-7BC5-4085-8730-A6F17694C91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6933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workbook contains only macr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pen this workbook each time you star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its macros in any other open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a workbook to open each time you start Excel in the General group on the Advanced tab in Excel Op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3505320" y="1344600"/>
            <a:ext cx="526248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1" name="TextBox 3"/>
          <p:cNvSpPr/>
          <p:nvPr/>
        </p:nvSpPr>
        <p:spPr>
          <a:xfrm>
            <a:off x="914400" y="2438280"/>
            <a:ext cx="243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cros can include format commands set from the dialog box or the Ribb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685800" y="1905120"/>
            <a:ext cx="205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cros are stored in modules in the Visual Basic Editor. A module can have several macr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2"/>
          <a:stretch/>
        </p:blipFill>
        <p:spPr>
          <a:xfrm>
            <a:off x="2895480" y="1590840"/>
            <a:ext cx="6007320" cy="45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TextBox 3"/>
          <p:cNvSpPr/>
          <p:nvPr/>
        </p:nvSpPr>
        <p:spPr>
          <a:xfrm>
            <a:off x="1265400" y="541008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You can create a documentation sheet for a macro workbook. Run the macro to displays its results and key a descri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1282680" y="1709640"/>
            <a:ext cx="6946920" cy="36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762120" y="2133720"/>
            <a:ext cx="3124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You can copy macro code from the Visual Basic Editor into a worksheet as docum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519440" cy="436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5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5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622F-5946-45AC-97FC-7C8A64B3896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ral-purpose macros that should be available at all times should be stored in the Personal Macro Workbook,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ersonal.xlsb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in the XLStart folde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ersonal Macro Workbook opens as a hidden workbook each time you star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5" name="Rectangle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8386920" cy="84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8448840" cy="846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2819520" y="1552680"/>
            <a:ext cx="5972040" cy="46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Box 1"/>
          <p:cNvSpPr/>
          <p:nvPr/>
        </p:nvSpPr>
        <p:spPr>
          <a:xfrm>
            <a:off x="609480" y="225576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Personal Macro workbook is hidden. You can unhide it for editing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371240" y="182844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ersonal.xlsb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an be edited in the Visual Basic Edito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ath to Personal.xlsb in Windows 7 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:\Users\UserName\AppData\Roaming\Microsoft\Excel\XLSTAR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of these folders may be hidd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853920" y="171360"/>
            <a:ext cx="8386920" cy="846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is a sequence of commands and keystrokes, converted to Visual Basic for Applications (VBA) code as you record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the Trust Center, you can set how a workbook with macros ope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ust enable macros to run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7040520" cy="115884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447920" y="19047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acro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sequence of commands and keystrokes that automate a routine tas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macros are recorded in Visual Basic for Applications programming language (VBA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un a macro from the View tab, from the Developer tab, with a keyboard shortcut, or from a form contr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Visual Basic Editor to review and edit macro cod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Alt]+[F11] to open the Visual Basic Edito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rint macro code from the Visual Basic Edi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1447560" y="1905120"/>
            <a:ext cx="6933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routine macros start with the word “Sub” followed by the macro n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routine macros end with “End Sub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stored in workbook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lete a macro if you no longer need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218960" y="18288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 names must begin with a letter and cannot use spaces or special charac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board shortcuts should include [Shift] so that you do not override Excel’s own shortcu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cord macros with relative or absolute cell referen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Button form control on the Developer tab to draw a button sha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ssign a macro to a butt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workbook can include only macros and document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 workbook can be hidden so that it is not mistakenly used as a regula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are stored in macro-enabled workboo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ile name extension for a macro-enabled workbook is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xls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how macro-enabled workbooks are opened in the Trust Cen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cros must be enabled to be us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8"/>
          <p:cNvSpPr/>
          <p:nvPr/>
        </p:nvSpPr>
        <p:spPr>
          <a:xfrm>
            <a:off x="1171440" y="1219320"/>
            <a:ext cx="736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iruses and other malware can easily be hidden in macros. You can set your computer to notify you when a workbook has a ma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828800" y="2006640"/>
            <a:ext cx="5872320" cy="4394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6" name="Rectangle 4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8"/>
          <p:cNvSpPr/>
          <p:nvPr/>
        </p:nvSpPr>
        <p:spPr>
          <a:xfrm>
            <a:off x="2590920" y="41990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security warning alerts you when you open a workbook that has mac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1"/>
          <a:stretch/>
        </p:blipFill>
        <p:spPr>
          <a:xfrm>
            <a:off x="852480" y="1905120"/>
            <a:ext cx="80010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Rectangle 4" descr=""/>
          <p:cNvPicPr/>
          <p:nvPr/>
        </p:nvPicPr>
        <p:blipFill>
          <a:blip r:embed="rId2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2"/>
          <p:cNvSpPr/>
          <p:nvPr/>
        </p:nvSpPr>
        <p:spPr>
          <a:xfrm>
            <a:off x="2341440" y="1371600"/>
            <a:ext cx="588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acros button is on the View and the Developer tabs. The Macro dialog box lists existing macro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0516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1228680" y="1433520"/>
            <a:ext cx="523800" cy="52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63" name="Rectangle 6" descr=""/>
          <p:cNvPicPr/>
          <p:nvPr/>
        </p:nvPicPr>
        <p:blipFill>
          <a:blip r:embed="rId3"/>
          <a:stretch/>
        </p:blipFill>
        <p:spPr>
          <a:xfrm>
            <a:off x="1195560" y="96840"/>
            <a:ext cx="7729200" cy="903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6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B213-EAC3-448C-BE7A-0587BD1E171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D-192</cp:lastModifiedBy>
  <dcterms:modified xsi:type="dcterms:W3CDTF">2010-09-09T01:23:29Z</dcterms:modified>
  <cp:revision>80</cp:revision>
  <dc:subject/>
  <dc:title>Microsoft off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66747396</vt:r8>
  </property>
</Properties>
</file>